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46-F137-4587-94E0-BF46D4C2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67F-6519-4BD5-8D6A-522BB9E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13B-1D60-4B67-A5C6-04385F50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F5C-EC66-4F25-8E3F-B028BBA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9D0-7047-4019-BC9B-8485E0CF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138-7754-4CAC-BC92-C77104B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52B-F7CD-4A32-918D-F3C6BE6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9544-F5B3-4E56-A952-4A589476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8B1-277A-47D1-9ECC-7494FF07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253-5141-4BC3-BB81-72A8A4B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3A01-905A-4D16-B63B-60E3A66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467-4560-4A6D-AF9C-04AD11E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053-1E71-4BE1-B483-CB1A9C4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1ACA-AC36-4C34-8C33-1227D12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DEF-5607-4C05-A8B6-6FADA95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63A8-6C33-4D50-9C85-7975F62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060C-7941-4DAF-A129-209C96E3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CDE-DF08-4434-A767-13544E8F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B0A-5DDC-4D16-897F-81D81C6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B48-C410-4B9B-B2A0-A2AD024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B98-9F03-4338-9E05-C5AFFE7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800-2B9F-4211-9A84-F7FC2C1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532-794B-479A-800E-5CB7600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5FD-4A7C-4D10-9684-F31C9FD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E82-65AA-4775-9A51-119F7E2F91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E5A-8E93-4805-8E7F-F4F728CE54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o Tell The Good News – Part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6:16 – 17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’s 2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issionary Jou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6629400" cy="5504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75248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oday’s Lesson Paul Is At Point 12 on the Map (Philip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Philipp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16-2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ing A Demon-Possessed Girl –The Demon Made Money For People By Fortunet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 of Jesus and His Gospel Freed the Girl, but Angered Those Who Used Her for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Are Arrested, Beaten, And Imprisoned (But, They Are Free Within Their Hear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Jailer Is Converted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5-3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ears Two Men Si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Knows They Have Something Special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ives Himself A Death Sentence When He Thinks The Prisoners Esca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ives Himself A Chance At Eternal Life When He Asks “What must I do to be saved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eard The Gospel and Was Baptized With Urgent Desire (Compare the Great Commission to Th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Servant of Jesus Christ, He Helps Paul and Si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 and Silas Are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35-4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ies’ F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learn that they have mistreated Roman citiz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ristian’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ake advantage of physical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return to Lydia’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eet with other believers before leaving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Stop: Thessalo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note that Luke stays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227240"/>
            <a:ext cx="6781680" cy="5630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34320" y="16765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y Passed Through Amphipolis (Point 13) and Apollonia (Point 14) and stop in Thessalonica (Point 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1-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Preaches In The Synago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easoned With Them From Scrip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Pointed Out That The Christ Had To S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Missed This Point As They Contemplated The Coming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Pointed Out That The Christ Was Also To Rise From The Dead According to Their Scrip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Missed This Point Al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Urged Them To Believe That Jesus Is The Mess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esulted In Some Noteworthy Conver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Also Stirred A Mob Ri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Thessalonic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5-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’s house is stormed in search of Paul and Si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 is taken before the c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cus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ul and Silas are charged with troublema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son is charged with allowing them to stay in his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ul and Silas are also accused of treason: “They profess allegiance to another king, Jesus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ease on bond and invitation to get out of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rethren there knew it was not safe for Paul and Silas to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2:41:31Z</dcterms:created>
  <dc:creator>Gateway Client</dc:creator>
  <dc:description/>
  <dc:language>en-US</dc:language>
  <cp:lastModifiedBy>Frank D Vines</cp:lastModifiedBy>
  <dcterms:modified xsi:type="dcterms:W3CDTF">2007-03-07T15:32:44Z</dcterms:modified>
  <cp:revision>5</cp:revision>
  <dc:subject/>
  <dc:title>Go Tell The Good News –Part 1</dc:title>
</cp:coreProperties>
</file>